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4E5B-3F50-4AD9-83CC-FCD3FEB49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C11-6789-4814-9076-430A38E2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8816-0FE3-49C4-9D06-6F040F7B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17C5-99A7-44C1-8263-8BB4B92B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897F-5CE0-4671-9837-55F5CCA9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B184-B7F6-428A-8767-B0DA18CF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31A-CD1C-4DF9-84BB-951ECABE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6258-A099-4884-A323-69C540C4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144-E8EA-4CC1-8A52-856D0194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BE7-C336-455F-B27D-38BC360E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5D48-C3A6-4EC4-9F93-234CFEF1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5A0-21BE-4CF3-B40B-35C44BD5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7596-7A8B-4724-9A27-2CDC9687CF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orghuis@concepts.nl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ulians clubje 2</a:t>
            </a:r>
            <a:r>
              <a:rPr b="0" lang="nl-NL" sz="4400" spc="-1" strike="noStrike" baseline="30000">
                <a:solidFill>
                  <a:srgbClr val="000000"/>
                </a:solidFill>
                <a:latin typeface="Arial"/>
              </a:rPr>
              <a:t>de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nieuwsbrief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andag 7 december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deze nieuwsbrief st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 wie er komt en wanneer julians clubje open is en dich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staan er belangrijke dingen in de nieuws brief is voor 1 week elke week krijg je nu dus een brief van julians clubje je kan de nieuws briefen vinden op juliansclubjeopvang.web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ANd9GcTKRyy10OjwOcX_m2WLvHms_D_MoVIZ397aLkwWSyg8OMvnYpLS"/>
          <p:cNvPicPr/>
          <p:nvPr/>
        </p:nvPicPr>
        <p:blipFill>
          <a:blip r:embed="rId1"/>
          <a:stretch/>
        </p:blipFill>
        <p:spPr>
          <a:xfrm>
            <a:off x="971640" y="0"/>
            <a:ext cx="7129440" cy="227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ANd9GcTKRyy10OjwOcX_m2WLvHms_D_MoVIZ397aLkwWSyg8OMvnYpLS"/>
          <p:cNvPicPr/>
          <p:nvPr/>
        </p:nvPicPr>
        <p:blipFill>
          <a:blip r:embed="rId2"/>
          <a:stretch/>
        </p:blipFill>
        <p:spPr>
          <a:xfrm>
            <a:off x="0" y="18900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ANd9GcTKRyy10OjwOcX_m2WLvHms_D_MoVIZ397aLkwWSyg8OMvnYpLS"/>
          <p:cNvPicPr/>
          <p:nvPr/>
        </p:nvPicPr>
        <p:blipFill>
          <a:blip r:embed="rId3"/>
          <a:stretch/>
        </p:blipFill>
        <p:spPr>
          <a:xfrm>
            <a:off x="0" y="609300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ANd9GcTKRyy10OjwOcX_m2WLvHms_D_MoVIZ397aLkwWSyg8OMvnYpLS"/>
          <p:cNvPicPr/>
          <p:nvPr/>
        </p:nvPicPr>
        <p:blipFill>
          <a:blip r:embed="rId4"/>
          <a:stretch/>
        </p:blipFill>
        <p:spPr>
          <a:xfrm>
            <a:off x="7812000" y="6021360"/>
            <a:ext cx="1152720" cy="620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ANd9GcTKRyy10OjwOcX_m2WLvHms_D_MoVIZ397aLkwWSyg8OMvnYpLS"/>
          <p:cNvPicPr/>
          <p:nvPr/>
        </p:nvPicPr>
        <p:blipFill>
          <a:blip r:embed="rId5"/>
          <a:stretch/>
        </p:blipFill>
        <p:spPr>
          <a:xfrm>
            <a:off x="7991640" y="0"/>
            <a:ext cx="115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nneer is julians clubje eigelijk open en dic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ndag is julians clubje: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insdag is julians clubje: 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oensdag is julians clubje: geslo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nderdag is julians clubje: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rijdag is julians clubje: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aterdag is julians clubje: alleen voor de familie borghuis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ndag is julians clubje: alleen voor de familie borghuis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ANd9GcTKRyy10OjwOcX_m2WLvHms_D_MoVIZ397aLkwWSyg8OMvnYpLS"/>
          <p:cNvPicPr/>
          <p:nvPr/>
        </p:nvPicPr>
        <p:blipFill>
          <a:blip r:embed="rId1"/>
          <a:stretch/>
        </p:blipFill>
        <p:spPr>
          <a:xfrm>
            <a:off x="7812000" y="5877000"/>
            <a:ext cx="1152720" cy="620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ANd9GcTKRyy10OjwOcX_m2WLvHms_D_MoVIZ397aLkwWSyg8OMvnYpLS"/>
          <p:cNvPicPr/>
          <p:nvPr/>
        </p:nvPicPr>
        <p:blipFill>
          <a:blip r:embed="rId2"/>
          <a:stretch/>
        </p:blipFill>
        <p:spPr>
          <a:xfrm>
            <a:off x="250920" y="907920"/>
            <a:ext cx="1152360" cy="621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ANd9GcTKRyy10OjwOcX_m2WLvHms_D_MoVIZ397aLkwWSyg8OMvnYpLS"/>
          <p:cNvPicPr/>
          <p:nvPr/>
        </p:nvPicPr>
        <p:blipFill>
          <a:blip r:embed="rId3"/>
          <a:stretch/>
        </p:blipFill>
        <p:spPr>
          <a:xfrm>
            <a:off x="7308720" y="836640"/>
            <a:ext cx="1150920" cy="620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ANd9GcTKRyy10OjwOcX_m2WLvHms_D_MoVIZ397aLkwWSyg8OMvnYpLS"/>
          <p:cNvPicPr/>
          <p:nvPr/>
        </p:nvPicPr>
        <p:blipFill>
          <a:blip r:embed="rId4"/>
          <a:stretch/>
        </p:blipFill>
        <p:spPr>
          <a:xfrm>
            <a:off x="179280" y="6021360"/>
            <a:ext cx="115272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e komt er d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n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nder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ij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ter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ndag komt: kiara en misschien lu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ANd9GcTKRyy10OjwOcX_m2WLvHms_D_MoVIZ397aLkwWSyg8OMvnYpLS"/>
          <p:cNvPicPr/>
          <p:nvPr/>
        </p:nvPicPr>
        <p:blipFill>
          <a:blip r:embed="rId1"/>
          <a:stretch/>
        </p:blipFill>
        <p:spPr>
          <a:xfrm>
            <a:off x="250920" y="54936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ANd9GcTKRyy10OjwOcX_m2WLvHms_D_MoVIZ397aLkwWSyg8OMvnYpLS"/>
          <p:cNvPicPr/>
          <p:nvPr/>
        </p:nvPicPr>
        <p:blipFill>
          <a:blip r:embed="rId2"/>
          <a:stretch/>
        </p:blipFill>
        <p:spPr>
          <a:xfrm>
            <a:off x="7524720" y="404640"/>
            <a:ext cx="1150920" cy="621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ANd9GcTKRyy10OjwOcX_m2WLvHms_D_MoVIZ397aLkwWSyg8OMvnYpLS"/>
          <p:cNvPicPr/>
          <p:nvPr/>
        </p:nvPicPr>
        <p:blipFill>
          <a:blip r:embed="rId3"/>
          <a:stretch/>
        </p:blipFill>
        <p:spPr>
          <a:xfrm>
            <a:off x="324000" y="595008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ANd9GcTKRyy10OjwOcX_m2WLvHms_D_MoVIZ397aLkwWSyg8OMvnYpLS"/>
          <p:cNvPicPr/>
          <p:nvPr/>
        </p:nvPicPr>
        <p:blipFill>
          <a:blip r:embed="rId4"/>
          <a:stretch/>
        </p:blipFill>
        <p:spPr>
          <a:xfrm>
            <a:off x="7740720" y="5950080"/>
            <a:ext cx="115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fom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ze email voor vragen is: </a:t>
            </a: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orghuis@concepts.n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ze nieuwe website adres is: juliansclubjeopvang.webs.c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uur ons even een mailtje als je wilt komen o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wilt u ook even u email adres naar ons sturen voor de nieuwsbrief van julians clubj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weten al over de nieuwe website met foto,s handig he als je de mail niet hebt gekregen mail dan even naar: borghuis@concepts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ANd9GcTKRyy10OjwOcX_m2WLvHms_D_MoVIZ397aLkwWSyg8OMvnYpLS"/>
          <p:cNvPicPr/>
          <p:nvPr/>
        </p:nvPicPr>
        <p:blipFill>
          <a:blip r:embed="rId2"/>
          <a:stretch/>
        </p:blipFill>
        <p:spPr>
          <a:xfrm>
            <a:off x="179280" y="189000"/>
            <a:ext cx="1152720" cy="62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ANd9GcTKRyy10OjwOcX_m2WLvHms_D_MoVIZ397aLkwWSyg8OMvnYpLS"/>
          <p:cNvPicPr/>
          <p:nvPr/>
        </p:nvPicPr>
        <p:blipFill>
          <a:blip r:embed="rId3"/>
          <a:stretch/>
        </p:blipFill>
        <p:spPr>
          <a:xfrm>
            <a:off x="7740720" y="26028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Nd9GcTKRyy10OjwOcX_m2WLvHms_D_MoVIZ397aLkwWSyg8OMvnYpLS"/>
          <p:cNvPicPr/>
          <p:nvPr/>
        </p:nvPicPr>
        <p:blipFill>
          <a:blip r:embed="rId4"/>
          <a:stretch/>
        </p:blipFill>
        <p:spPr>
          <a:xfrm>
            <a:off x="-576360" y="6858000"/>
            <a:ext cx="1152720" cy="6206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ANd9GcTKRyy10OjwOcX_m2WLvHms_D_MoVIZ397aLkwWSyg8OMvnYpLS"/>
          <p:cNvPicPr/>
          <p:nvPr/>
        </p:nvPicPr>
        <p:blipFill>
          <a:blip r:embed="rId5"/>
          <a:stretch/>
        </p:blipFill>
        <p:spPr>
          <a:xfrm>
            <a:off x="7667640" y="6858000"/>
            <a:ext cx="115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inde julians clubje nieuwsbrief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: maandag 7 december 20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ANd9GcTKRyy10OjwOcX_m2WLvHms_D_MoVIZ397aLkwWSyg8OMvnYpLS"/>
          <p:cNvPicPr/>
          <p:nvPr/>
        </p:nvPicPr>
        <p:blipFill>
          <a:blip r:embed="rId1"/>
          <a:stretch/>
        </p:blipFill>
        <p:spPr>
          <a:xfrm>
            <a:off x="250920" y="1989000"/>
            <a:ext cx="8137440" cy="435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Nd9GcTKRyy10OjwOcX_m2WLvHms_D_MoVIZ397aLkwWSyg8OMvnYpLS"/>
          <p:cNvPicPr/>
          <p:nvPr/>
        </p:nvPicPr>
        <p:blipFill>
          <a:blip r:embed="rId2"/>
          <a:stretch/>
        </p:blipFill>
        <p:spPr>
          <a:xfrm>
            <a:off x="0" y="69228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ANd9GcTKRyy10OjwOcX_m2WLvHms_D_MoVIZ397aLkwWSyg8OMvnYpLS"/>
          <p:cNvPicPr/>
          <p:nvPr/>
        </p:nvPicPr>
        <p:blipFill>
          <a:blip r:embed="rId3"/>
          <a:stretch/>
        </p:blipFill>
        <p:spPr>
          <a:xfrm>
            <a:off x="7812000" y="1197000"/>
            <a:ext cx="1152720" cy="620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ANd9GcTKRyy10OjwOcX_m2WLvHms_D_MoVIZ397aLkwWSyg8OMvnYpLS"/>
          <p:cNvPicPr/>
          <p:nvPr/>
        </p:nvPicPr>
        <p:blipFill>
          <a:blip r:embed="rId4"/>
          <a:stretch/>
        </p:blipFill>
        <p:spPr>
          <a:xfrm>
            <a:off x="7991640" y="6237360"/>
            <a:ext cx="1152360" cy="62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ANd9GcTKRyy10OjwOcX_m2WLvHms_D_MoVIZ397aLkwWSyg8OMvnYpLS"/>
          <p:cNvPicPr/>
          <p:nvPr/>
        </p:nvPicPr>
        <p:blipFill>
          <a:blip r:embed="rId5"/>
          <a:stretch/>
        </p:blipFill>
        <p:spPr>
          <a:xfrm>
            <a:off x="0" y="6237360"/>
            <a:ext cx="11523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4:54:52Z</dcterms:created>
  <dc:creator>julian borghuis</dc:creator>
  <dc:description/>
  <dc:language>en-US</dc:language>
  <cp:lastModifiedBy>borghuis</cp:lastModifiedBy>
  <dcterms:modified xsi:type="dcterms:W3CDTF">2014-12-03T18:34:29Z</dcterms:modified>
  <cp:revision>5</cp:revision>
  <dc:subject/>
  <dc:title>Julians clubje heeft nu een eindelijk een nieuwsbrief</dc:title>
</cp:coreProperties>
</file>