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ED4-1003-47D2-8951-27B19852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31A-F32F-4FA4-AE29-BA625D37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323-44B8-45B7-8533-7998733F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3BC-136C-4151-9169-47DBCBE7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C50-534C-422F-906E-0D040A4C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964-F37A-47E1-962D-EF74403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203-A52D-40E3-8A36-9774956A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D03-4A7E-430F-B09A-F173466C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300-C40B-4130-B4B0-771E8FB1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B8F-8BE9-44EA-9BE2-140BD09A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277-16E8-4CC6-98F7-71769A1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C96-8544-4A40-B227-1C8B307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5B5F-950E-4FFE-9E1B-C2C43919E9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orghuis@concepts.n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lians clubje 2</a:t>
            </a:r>
            <a:r>
              <a:rPr b="0" lang="nl-NL" sz="44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nieuwsbrief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andag 7 december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ze nieuwsbrief st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wie er komt en wanneer julians clubje open is en dich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staan er belangrijke dingen in de nieuws brief is voor 1 week elke week krijg je nu dus een brief van julians clubje je kan de nieuws briefen vinden op juliansclubjeopvang.web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227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0" y="609300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7812000" y="602136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ANd9GcTKRyy10OjwOcX_m2WLvHms_D_MoVIZ397aLkwWSyg8OMvnYpLS"/>
          <p:cNvPicPr/>
          <p:nvPr/>
        </p:nvPicPr>
        <p:blipFill>
          <a:blip r:embed="rId5"/>
          <a:stretch/>
        </p:blipFill>
        <p:spPr>
          <a:xfrm>
            <a:off x="7991640" y="0"/>
            <a:ext cx="115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nneer is julians clubje eigelijk open en dic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n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ns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ens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nder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terdag is julians clubje: alleen voor de familie borghui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dag is julians clubje: alleen voor de familie borghui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7812000" y="587700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250920" y="907920"/>
            <a:ext cx="1152360" cy="6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7308720" y="836640"/>
            <a:ext cx="1150920" cy="62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179280" y="6021360"/>
            <a:ext cx="115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 komt er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n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nder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ter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250920" y="54936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7524720" y="404640"/>
            <a:ext cx="1150920" cy="6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324000" y="595008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7740720" y="5950080"/>
            <a:ext cx="115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fo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ze email voor vragen is: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rghuis@concepts.n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ze nieuwe website adres is: juliansclubjeopvang.webs.c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ur ons even een mailtje als je wilt komen o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wilt u ook even u email adres naar ons sturen voor de nieuwsbrief van julians club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weten al over de nieuwe website met foto,s handig he als je de mail niet hebt gekregen mail dan even naar: borghuis@concepts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179280" y="18900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7740720" y="26028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-576360" y="685800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Nd9GcTKRyy10OjwOcX_m2WLvHms_D_MoVIZ397aLkwWSyg8OMvnYpLS"/>
          <p:cNvPicPr/>
          <p:nvPr/>
        </p:nvPicPr>
        <p:blipFill>
          <a:blip r:embed="rId5"/>
          <a:stretch/>
        </p:blipFill>
        <p:spPr>
          <a:xfrm>
            <a:off x="7667640" y="6858000"/>
            <a:ext cx="115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julians clubje nieuwsbrief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: maandag 7 december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250920" y="1989000"/>
            <a:ext cx="813744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0" y="69228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7812000" y="119700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7991640" y="623736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ANd9GcTKRyy10OjwOcX_m2WLvHms_D_MoVIZ397aLkwWSyg8OMvnYpLS"/>
          <p:cNvPicPr/>
          <p:nvPr/>
        </p:nvPicPr>
        <p:blipFill>
          <a:blip r:embed="rId5"/>
          <a:stretch/>
        </p:blipFill>
        <p:spPr>
          <a:xfrm>
            <a:off x="0" y="6237360"/>
            <a:ext cx="115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54:52Z</dcterms:created>
  <dc:creator>julian borghuis</dc:creator>
  <dc:description/>
  <dc:language>en-US</dc:language>
  <cp:lastModifiedBy>borghuis</cp:lastModifiedBy>
  <dcterms:modified xsi:type="dcterms:W3CDTF">2014-12-03T18:34:29Z</dcterms:modified>
  <cp:revision>5</cp:revision>
  <dc:subject/>
  <dc:title>Julians clubje heeft nu een eindelijk een nieuwsbrief</dc:title>
</cp:coreProperties>
</file>