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3CD-B765-4500-988D-2F3033D0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A44-8ADE-4129-9ABA-D09A3D3D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168-E194-4921-9FB0-B19B00BD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89B1-30E1-4040-B012-C36D5795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771C-F045-4563-BCC5-76DC1EC2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205D-67E7-44D3-8B26-FEA5463C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AAE-34AE-47A7-8E7F-9E666F56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40B-40CA-4022-89C7-C89CD27C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2256-BB0B-4CFA-BF14-AF378360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2904-2862-41C3-9CE6-D86E134B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D73-C552-470F-9EA2-F949986F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1614-ECE8-4D25-B67F-E03172D5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111-D796-416C-806A-11DE5D9298C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orghuis@concepts.n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lians clubje heeft nu een eindelijk een nieuws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wie er komt en wanneer julians clubje open is en dich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staan er belangrijke dingen in de nieuws brief is voor 1 week elke week krijg je nu dus een brief van julians clubje je kan de nieuws briefen vinden op juliansclubjeopvang.web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2700360" y="189000"/>
            <a:ext cx="3024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nneer is julians clubje eigelijk open en dic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n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ns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ens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nder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terdag is julians clubje: alleen voor de familie borghui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dag is julians clubje: alleen voor de familie borghui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 komt er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n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nder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ter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fo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ze email voor vragen is: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rghuis@concepts.n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ze nieuwe website adres is: juliansclubjeopvang.webs.c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ur ons even een mailtje als je wilt komen o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wilt u ook even u email adres naar ons sturen voor de nieuwsbrief van julians club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julians clubje nieuwsbr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395280" y="1413000"/>
            <a:ext cx="8137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54:52Z</dcterms:created>
  <dc:creator>julian borghuis</dc:creator>
  <dc:description/>
  <dc:language>en-US</dc:language>
  <cp:lastModifiedBy>borghuis</cp:lastModifiedBy>
  <dcterms:modified xsi:type="dcterms:W3CDTF">2014-12-01T15:21:06Z</dcterms:modified>
  <cp:revision>3</cp:revision>
  <dc:subject/>
  <dc:title>Julians clubje heeft nu een eindelijk een nieuwsbrief</dc:title>
</cp:coreProperties>
</file>