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30C-339F-4E20-BA9B-1F5A7322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0B7-BE5A-4DFD-9EA0-C2A4FC64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981-0B72-426E-864C-A0889A8B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871-7BC3-4956-9450-6A433FFB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8B27-F914-4BD0-A7C7-2A00E265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B2E5-D668-4973-A29F-F08E49EA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7A8-EEA7-4B6A-A613-01BE55B4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CF09-48F0-4AFF-AED7-1C95BC5D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0E8E-5396-4F8B-AC7A-B12C3B7D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2CC7-0155-40E3-8BF1-C94D4F0E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91C0-7912-4E97-A984-1492ABDA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A3A9-DBBB-4B86-A661-171FCDF0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7A6B-F4BA-4839-97EB-004B1696D6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orghuis@concepts.n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ulians clubje heeft nu een eindelijk een nieuwsbr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wie er komt en wanneer julians clubje open is en dich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staan er belangrijke dingen in de nieuws brief is voor 1 week elke week krijg je nu dus een brief van julians clubje je kan de nieuws briefen vinden op juliansclubjeopvang.web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Nd9GcTKRyy10OjwOcX_m2WLvHms_D_MoVIZ397aLkwWSyg8OMvnYpLS"/>
          <p:cNvPicPr/>
          <p:nvPr/>
        </p:nvPicPr>
        <p:blipFill>
          <a:blip r:embed="rId1"/>
          <a:stretch/>
        </p:blipFill>
        <p:spPr>
          <a:xfrm>
            <a:off x="2700360" y="189000"/>
            <a:ext cx="30240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nneer is julians clubje eigelijk open en dic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ndag is julians clubje: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nsdag is julians clubje: gesl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ensdag is julians clubje: gesl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nderdag is julians clubje: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ijdag is julians clubje: gesl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aterdag is julians clubje: alleen voor de familie borghuis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dag is julians clubje: alleen voor de familie borghuis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e komt er d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ndag komt: kiara en misschien lu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nderdag komt: kiara en misschien lu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ijdag komt: kiara en misschien lu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terdag komt: kiara en misschien lu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dag komt: kiara en misschien lu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fom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ze email voor vragen is: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orghuis@concepts.n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ze nieuwe website adres is: juliansclubjeopvang.webs.c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uur ons even een mailtje als je wilt komen o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wilt u ook even u email adres naar ons sturen voor de nieuwsbrief van julians club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nde julians clubje nieuwsbr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ANd9GcTKRyy10OjwOcX_m2WLvHms_D_MoVIZ397aLkwWSyg8OMvnYpLS"/>
          <p:cNvPicPr/>
          <p:nvPr/>
        </p:nvPicPr>
        <p:blipFill>
          <a:blip r:embed="rId1"/>
          <a:stretch/>
        </p:blipFill>
        <p:spPr>
          <a:xfrm>
            <a:off x="395280" y="1413000"/>
            <a:ext cx="8137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54:52Z</dcterms:created>
  <dc:creator>julian borghuis</dc:creator>
  <dc:description/>
  <dc:language>en-US</dc:language>
  <cp:lastModifiedBy>borghuis</cp:lastModifiedBy>
  <dcterms:modified xsi:type="dcterms:W3CDTF">2014-12-01T15:21:06Z</dcterms:modified>
  <cp:revision>3</cp:revision>
  <dc:subject/>
  <dc:title>Julians clubje heeft nu een eindelijk een nieuwsbrief</dc:title>
</cp:coreProperties>
</file>